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094-A3A4-40BB-9833-AC435CA1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3A9-ADCB-4EF5-9D73-295B71DA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255-0262-4352-972D-58471F1B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4165-41BE-4FB9-BB08-6D805F06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DA02-23E7-4EA5-BF7E-A6281DB2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A39A-7F10-4061-BE8A-997C89BE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9DD5-F020-44EA-8B79-8A51B6C8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65FE-C9E8-4752-8F3F-58F6B1E0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8226-B958-4961-BDDA-6E63973C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8119-51BB-4B63-9ECB-9B9ACEB9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6243-9FE7-4733-8661-9DFC17B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2B0-17B1-44C7-90A0-E28D8F4E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84AD-7909-4221-86DA-48126802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52BF-0A4D-4E4F-9156-96AE4EA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19A9-6D49-4E92-A95F-FC155278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7C41-5B03-405E-AE60-249D1121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2C81-37A5-40DC-A53A-4C765309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36F-86D2-4C06-9551-E999E2FF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093-D73A-4159-9906-DE9ED6A9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FA45-435E-486F-8DF7-73F00F16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639-7387-4C2D-9D64-D1026834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B0D-026C-4E2E-AB51-8973CAB5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BA8-4D2A-47FB-832E-9020F729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EB6-00F7-4DE4-B4E0-5BDF36F7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AB20-7A61-4D63-A149-11E3569EC8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3149-DBF2-4081-89E3-702D674DC9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Johnathan Stewar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-a system for sending messages from one individual to another via telecommunications links between computers or termi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-An international computer network of Internet servers, using its own protocol through which individual users can hold real-time online convers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S-bulletin board system: a computerized facility, accessible by modem, for collecting and relaying electronic messages and software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-hypertext transfer protocol: the standard protocol for transferring hypertext documents on the World Wide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-File Transfer Protocol: a software protocol for exchanging information between computers over a net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net-An Internet communications protocol that enables a computer to function as a terminal working from a remote compu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her-a protocol for a menu-based system of accessing documents on the Intern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net-a computer network with restricted access, as within a company, that uses software and protocols developed for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wall-an integrated collection of security measures designed to prevent unauthorized electronic access to a networked comput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net-an intranet that is partially accessible to authorized persons outside of a company or org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Profiling-A marketing technique that collects online data about 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ies-a message, or segment of data, containing information about a user, sent by a Web server to a browser and sent back to the server each time the browser requests a Web 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net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tensive system of newsgroups: a branch of the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width-the transmission capacity of an electronic communications device or system; the speed of data transfer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high-bandwidth Internet connec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-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orkstation on a network that gains access to central data files, programs, and peripheral devices through a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l-digital subscriber line: a technology that allows high-speed transmission of text, audio, and video, usually over standard telephone lines; a form of broadband trans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-a type of network technology for local area networks; coaxial cable carries radio frequency signals between computers at a rate of 10 megabits per second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quette-the rules of etiquette that apply when communicating over computer networks, esp. the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-the customs and regulations dealing with diplomatic formality, precedence, and etiquet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-a collection of open sets making a given set a topological 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networks-refers to any type of computer network that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re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is commonly associated with a telecommunications network whose interconnections between nod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terface card- a circuit board that goes into the base unit of a computer or other device in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- internet provider is a company that offers access to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 – a series of related web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27:37Z</dcterms:created>
  <dc:creator>762913</dc:creator>
  <dc:description/>
  <dc:language>en-US</dc:language>
  <cp:lastModifiedBy>762913</cp:lastModifiedBy>
  <dcterms:modified xsi:type="dcterms:W3CDTF">2009-04-14T17:37:18Z</dcterms:modified>
  <cp:revision>2</cp:revision>
  <dc:subject/>
  <dc:title>Johnathan Stewart</dc:title>
</cp:coreProperties>
</file>